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4.5FamilyTi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2096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Or what man is there of you, whom if his son ask bread, will he give him a stone? Or if he ask a fish, will he give him a serpent? If ye then, being evil, know how to give good gifts unto your children, how much more shall your Father which is in heaven give good things to them that ask him?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Matthew 7:9-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JEWS PLOTTED TO KILL PAUL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NEPHEW SAVED HIS LIF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ESCAPES UNDER COVE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F DARKNES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49:58Z</dcterms:modified>
  <cp:revision>60</cp:revision>
  <dc:subject/>
  <dc:title>PowerPoint Presentation</dc:title>
</cp:coreProperties>
</file>