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3.1VillaintoHero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701720" y="2541600"/>
            <a:ext cx="9677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I am the least of the apostles, that am not meet to be called an apostle, because I persecuted the church of God. But by the grace of God I am what I am: and his grace which was bestowed upon me was not in vain; but I laboured more abundantly than they all: yet not I, but the grace of God which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was with me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1 Corinthians 15:9-10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AUL SET OUT TO ARREST THE CHRISTIANS IN DAMASCU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LORD KNOCKED SAUL DOWN, SPOKE TO HIM, AND BLINDED HIM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GOD USED ANANIAS TO GIV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AUL HIS MESSAG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35:37Z</dcterms:modified>
  <cp:revision>52</cp:revision>
  <dc:subject/>
  <dc:title>PowerPoint Presentation</dc:title>
</cp:coreProperties>
</file>