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.4SettingtheStoryStraigh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.4SettingtheStoryStraigh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06640" y="2362320"/>
            <a:ext cx="9067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Helvetica Light"/>
              </a:rPr>
              <a:t>Ye stiffnecked and uncircumcised in heart and ears, ye do always resist the Holy Ghost: as your fathers did, so do ye. Which of the prophets have not your fathers persecuted? and they have slain them which shewed before of the coming of the Just One; of whom ye have been now the betrayers and murderers: Who have received the law by the disposition of angels, and have not kept it.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Acts 7:51-53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2.4SettingtheStoryStraigh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GOD USED A WILLING SERVANT IN THE CHURCH TO SHOW HIS GREAT POWER TO THE WORL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OWERFUL MEN OPPOSED STEPHEN AND LIED TO TRY TO STOP HIM FROM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ALKING ABOUT JESU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INSTEAD OF DEFENDING HIS OWN STORY, STEPHEN TOLD THE STORY OF WHAT GOD WAS DOING IN THE WORL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.4SettingtheStoryStraigh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8:05Z</dcterms:modified>
  <cp:revision>48</cp:revision>
  <dc:subject/>
  <dc:title>PowerPoint Presentation</dc:title>
</cp:coreProperties>
</file>