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1.6AwesomeSigns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1.6AwesomeSign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387520" y="3767040"/>
            <a:ext cx="822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And fear came upon every soul: and many wonders and signs were done by the apostles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Acts 2:43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1.6AwesomeSign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205740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THESE SIGNS WERE AWESOME!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THESE SIGNS IMPACTED MANY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THESE SIGNS HELPED GET THE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WORD OUT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1.6AwesomeSign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19:01:43Z</dcterms:modified>
  <cp:revision>44</cp:revision>
  <dc:subject/>
  <dc:title>PowerPoint Presentation</dc:title>
</cp:coreProperties>
</file>