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3.2ChangeYouCanTrus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257560"/>
            <a:ext cx="9220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at ye put off concerning the former conversation the old man, which is corrupt according to the deceitful lusts; And be renewed in the spirit of your mind; And that ye put on the new man, which after God is created in righteousness and true holines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Ephesians 4:22-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FTER HIS CONVERSION, SAUL IMMEDIATELY BEGAN TO PREACH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LOWLY, BOTH THE CHRISTIANS AND JEWISH LEADERS BECAME CONVINCED THE CHANGE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IN SAUL WAS REA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’S HEART WAS CHANGED, BUT HIS BOLD PERSONALITY WAS NOT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7:29Z</dcterms:modified>
  <cp:revision>51</cp:revision>
  <dc:subject/>
  <dc:title>PowerPoint Presentation</dc:title>
</cp:coreProperties>
</file>