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2.7PhilipandtheEthiopian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2.7PhilipandtheEthiopia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06640" y="2770200"/>
            <a:ext cx="906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 place of the scripture which he read was this, He was led as a sheep to the slaughter; and like a lamb dumb before his shearer, so opened he not his mouth: In his humiliation his judgment was taken away: and who shall declare his generation? for his life is taken from the earth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32-3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2.7PhilipandtheEthiopia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98108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 SENT PHILIP TO MEET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ETHIOPIAN MA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HILIP EXPLAINED THE GOSPE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FROM SCRIPTUR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ETHIOPIAN MAN BELIEVED 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WAS BAPTIZ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2.7PhilipandtheEthiopia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8:11Z</dcterms:modified>
  <cp:revision>48</cp:revision>
  <dc:subject/>
  <dc:title>PowerPoint Presentation</dc:title>
</cp:coreProperties>
</file>