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2.3MoreDisciplesMoreServant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895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Wherefore, brethren, look ye out among you seven men of honest report, full of the Holy Ghost and wisdom, whom we may appoint over this busines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cts 6: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01720" y="9907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EVEN SUCCESSFUL, GROWING CHURCHES EXPERIENCE CONFLICT AND NEED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HIP SOLUTIONS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MUST HAVE GOOD REPUTATIONS, WALK IN THE SPIRIT,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ND LIVE WISELY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ARE CHOSEN FROM THE PEOPLE WITHIN THE CHURCH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2:13Z</dcterms:modified>
  <cp:revision>44</cp:revision>
  <dc:subject/>
  <dc:title>PowerPoint Presentation</dc:title>
</cp:coreProperties>
</file>