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1" descr="3.6GetAlong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1" descr="3.6GetAlong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540160" y="373392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Let us therefore follow after the things which make for peace, and things wherewith one may edify another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Helvetica Light"/>
                <a:ea typeface="Arial"/>
              </a:rPr>
              <a:t>Romans 14:19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4" descr="3.6GetAlong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854360" y="1905120"/>
            <a:ext cx="944856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</a:rPr>
              <a:t>AN ARGUMENT BREAKS OUT</a:t>
            </a: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</a:rPr>
              <a:t>THE APOSTLES AND THE ELDERS OF THE CHURCH LISTENED, PRAYED, DISCUSSED, AND THEN GAVE THEIR JUDGMENT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</a:rPr>
              <a:t>ON THE ARGUMENT</a:t>
            </a: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</a:rPr>
              <a:t>PAUL AND BARNABAS SPLIT UP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</a:rPr>
              <a:t>TIMOTHY JOINED PAUL AND SILAS</a:t>
            </a: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4" descr="3.6GetAlong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9:51:25Z</dcterms:modified>
  <cp:revision>55</cp:revision>
  <dc:subject/>
  <dc:title>PowerPoint Presentation</dc:title>
</cp:coreProperties>
</file>