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.2RighteousRebellio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149640" y="31240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n Peter and the other apostles answered and said, We ought to obey God rather than men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cts 5:2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SANHEDRIN STRUCK BACK A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 KEPT REBELL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GAMALIEL SUGGES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N EXPERI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1:12Z</dcterms:modified>
  <cp:revision>46</cp:revision>
  <dc:subject/>
  <dc:title>PowerPoint Presentation</dc:title>
</cp:coreProperties>
</file>