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4.3OneMoreThing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5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514600"/>
            <a:ext cx="8077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But none of these things move me, neither count I my life dear unto myself, so that I might finish my course with joy, and the ministry, which I have received of the Lord Jesus, to testify the gospel of the grace of God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0: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9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MINISTRY BROUGHT LIF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WOLVES WILL BRING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DESTRUCTION AND DIVI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DISCIPLES WERE CHALLENGED TO FOLLOW PAUL’S EXAMPL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28:48Z</dcterms:modified>
  <cp:revision>58</cp:revision>
  <dc:subject/>
  <dc:title>PowerPoint Presentation</dc:title>
</cp:coreProperties>
</file>