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3.5HeadingOu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844720" y="350532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Christ sent me not to baptize, but to preach the gospel: not with wisdom of words, lest the cross of Christ should be made of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none effect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:17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549440" y="1981080"/>
            <a:ext cx="99061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AUL AND BARNABAS WERE SENT OUT AS MISSIONARIES BY THE HOLY SPIRIT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AND THE CHURCH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OME SAW THE MIRACLES PAUL PERFORMED AND BELIEVED THE TEACHING ABOUT JESU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PAUL AND BARNABAS WERE EVENTUALLY KICKED OUT OF THE CITY FOR PREACHING THE GOSPEL, BUT THEY STILL ACCOMPLISHED THEIR MISSION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9:48Z</dcterms:modified>
  <cp:revision>56</cp:revision>
  <dc:subject/>
  <dc:title>PowerPoint Presentation</dc:title>
</cp:coreProperties>
</file>