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4.4FinalRepor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223668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aul greeted them and reported in detail what God had done among the Gentiles through his ministry. When they heard this, they praised God. Then they said to Paul: “You see, brother, how many thousands of Jews have believed, and all of them are zealous for the law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1:19-2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REPORTS TO THE CHURCH LEAD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LISTENS TO THEIR ADVIC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TINUES WITH 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47:52Z</dcterms:modified>
  <cp:revision>63</cp:revision>
  <dc:subject/>
  <dc:title>PowerPoint Presentation</dc:title>
</cp:coreProperties>
</file>