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4DevotedtotheWord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3581280"/>
            <a:ext cx="929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they continued stedfastly in the apostles' doctrine and fellowship, and in breaking of bread, and in prayer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:4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8108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HEY (THE CHURCH) DEVOTED THEMSELVE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O THE APOSTLES’ TEACHING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FULFILLING THE GREAT COMMISSION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2:59Z</dcterms:modified>
  <cp:revision>37</cp:revision>
  <dc:subject/>
  <dc:title>PowerPoint Presentation</dc:title>
</cp:coreProperties>
</file>