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2.6FreePower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2.6FreePower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768760" y="3352680"/>
            <a:ext cx="7467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But Peter said unto him, Thy money perish with thee, because thou hast thought that the gift of God may be purchased with money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cts 8:20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2.6FreePower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EVERYONE WAS AMAZED BY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SIMON’S MAGIC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SIMON WAS AMAZED BY GOD’S POWER AND BELIEVED IN JESU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SIMON TRIED TO BUY THE FREE GIFT OF GOD’S POWER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2.6FreePower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26:19Z</dcterms:modified>
  <cp:revision>50</cp:revision>
  <dc:subject/>
  <dc:title>PowerPoint Presentation</dc:title>
</cp:coreProperties>
</file>