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2.5WillingtoRunDie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2.5WillingtoRunDie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463840" y="2943360"/>
            <a:ext cx="815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And Saul was consenting unto his death. And at that time there was a great persecution against the church which was at Jerusalem; and they were all scattered abroad throughout the regions of Judaea and Samaria, except the apostles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8:1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2.5WillingtoRunDie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TEPHEN SAW THE GLORY OF GOD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TEPHEN DIED FOR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— </a:t>
            </a: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AND LIKE — JESUS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ERSECUTION BEGAN AND TH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CHURCH SCATTERED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2.5WillingtoRunDie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23:10Z</dcterms:modified>
  <cp:revision>47</cp:revision>
  <dc:subject/>
  <dc:title>PowerPoint Presentation</dc:title>
</cp:coreProperties>
</file>