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.7MineYour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1.7MineYour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778040" y="3116160"/>
            <a:ext cx="9448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  <a:ea typeface="Arial"/>
              </a:rPr>
              <a:t>And the multitude of them that believed were of one heart and of one soul: neither said any of them that ought of the things which he possessed was his own; but they had all things common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  <a:ea typeface="Arial"/>
              </a:rPr>
              <a:t>Acts 4:32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1.7MineYour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437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  <a:ea typeface="Arial"/>
              </a:rPr>
              <a:t>GENEROUS PEOPLE GIVE AWAY AND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  <a:ea typeface="Arial"/>
              </a:rPr>
              <a:t>SELL THE EXCESS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  <a:ea typeface="Arial"/>
              </a:rPr>
              <a:t>THE PEOPLE SOLD THEIR ITEMS, NOT SOMEONE ELSE’S ITEMS.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  <a:ea typeface="Arial"/>
              </a:rPr>
              <a:t>IT WAS PERSONAL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  <a:ea typeface="Arial"/>
              </a:rPr>
              <a:t>GENEROUS PEOPLE ARE PEOPLE WHO MEET REAL NEEDS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1.7MineYour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Arial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262626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4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262626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4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262626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4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wana Employee</cp:lastModifiedBy>
  <dcterms:modified xsi:type="dcterms:W3CDTF">2016-07-22T19:37:08Z</dcterms:modified>
  <cp:revision>45</cp:revision>
  <dc:subject/>
  <dc:title>PowerPoint Presentation</dc:title>
</cp:coreProperties>
</file>