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4" descr="4.2ClingingOnlytoTruth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4" descr="4.2ClingingOnlytoTruth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463840" y="2666880"/>
            <a:ext cx="815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For through him we both have access by one Spirit unto the Father. Now therefore ye are no more strangers and foreigners, but fellow citizens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with the saints, and of th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household of God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Ephesians 2:18-19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8" descr="4.2ClingingOnlytoTruth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86840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 COMMITTED HIS LIFE AND WORK TO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GOD’S KINGDOM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OME OF THE JEWS REJECTED THE GOSPEL IN FAVOR OF THEIR RELIGIOUS TRADITIONS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OME OF THE GREEKS VIOLENTLY REJECTED THE GOSPEL IN FAVOR OF THEIR GODS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4.2ClingingOnlytoTruth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20:26:51Z</dcterms:modified>
  <cp:revision>59</cp:revision>
  <dc:subject/>
  <dc:title>PowerPoint Presentation</dc:title>
</cp:coreProperties>
</file>